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jpeg" ContentType="image/jpeg"/>
  <Override PartName="/ppt/media/image11.gif" ContentType="image/gif"/>
  <Override PartName="/ppt/media/image14.png" ContentType="image/png"/>
  <Override PartName="/ppt/media/image6.gif" ContentType="image/gif"/>
  <Override PartName="/ppt/media/image19.gif" ContentType="image/gif"/>
  <Override PartName="/ppt/media/image1.gif" ContentType="image/gif"/>
  <Override PartName="/ppt/media/image10.png" ContentType="image/png"/>
  <Override PartName="/ppt/media/image18.gif" ContentType="image/gif"/>
  <Override PartName="/ppt/media/image3.wmf" ContentType="image/x-wmf"/>
  <Override PartName="/ppt/media/image17.jpeg" ContentType="image/jpeg"/>
  <Override PartName="/ppt/media/image5.gif" ContentType="image/gif"/>
  <Override PartName="/ppt/media/image16.png" ContentType="image/png"/>
  <Override PartName="/ppt/media/image7.jpeg" ContentType="image/jpeg"/>
  <Override PartName="/ppt/media/image8.jpeg" ContentType="image/jpeg"/>
  <Override PartName="/ppt/media/image2.gif" ContentType="image/gif"/>
  <Override PartName="/ppt/media/image4.gif" ContentType="image/gif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4B54-8C41-4D8E-B49C-62E1A9EA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B962-B004-4490-AD1B-3113B749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07B8-44FD-467C-84DE-7CC72FE2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863F-8C83-4F90-8FFB-C838A5A2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E1A-C594-4799-B801-53A27623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18B7-A0C9-45A9-986A-07CEF0D2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34FD-F3B6-417F-A007-A7F32107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855E-92F7-4D77-89A4-16E02A90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E2A7-3D81-4056-A615-1D451294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AA1B-7B79-4D43-9D5F-00DE9458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2C84-E724-4054-ABD8-53454AE3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146C-3194-4776-A901-030D614C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1CAC-6B52-4C0A-9A3B-7BB90B082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udhs-fs/tshare/DeLaurentis%20-%20Biology%20392/Biology%20392/Unit%202%20-%20Chapters%202,%2038%20,%208,%209,%2023/Chapter%208%20-%20Photosynthesis/Movies/Chapter%2008A.mpg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en.wikipedia.org/wiki/Image:Impala_ram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Maiandra GD"/>
              </a:rPr>
              <a:t>Chapter 8.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aiandra GD"/>
              </a:rPr>
              <a:t>Energy and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17480" y="2120760"/>
            <a:ext cx="7961400" cy="3210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030760" y="1776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51640" y="17762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90920" y="281772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90920" y="340200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6360" y="3502080"/>
            <a:ext cx="41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nosine diphosphate (ADP) + Phosph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50400" y="3502080"/>
            <a:ext cx="289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nosine triphosphate (AT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35600" y="4243320"/>
            <a:ext cx="91368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94520" y="4243320"/>
            <a:ext cx="91368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8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223920"/>
            <a:ext cx="4952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8-3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parison of ADP and ATP to a 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P Formation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T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at is ener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hat is the difference between an autotroph and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eterotro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at is the fuel for life?  Why must it b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ed into another 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hat is ATP? What are its 3 main par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ow is ATP used to store and release energ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What is the difference between an endergon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 and an exergonic re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57200"/>
            <a:ext cx="1020960" cy="1020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43000" y="304920"/>
            <a:ext cx="80172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Energy = the ability to d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ex. light, heat, electricity, stored in bonds of chemical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Living things depend 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Even when sleeping, your cells use energy to build new proteins and amino ac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0" y="3808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828800" y="4800600"/>
            <a:ext cx="2133720" cy="1844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486400" y="4800600"/>
            <a:ext cx="198108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Autotroph vs. Heterotro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Autotroph 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 (auto = “self”, trophe = “food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Organisms that make their own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iandra G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Plants and some other organisms use light energy from the s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Heterotroph 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(hetero = “other”, trophe = “food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Obtain energy from the foods that they cons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iandra G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Eat autotrophs or other heterotro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467480" y="1336680"/>
            <a:ext cx="1101960" cy="1054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0120" y="4730760"/>
            <a:ext cx="118116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58000" y="2362320"/>
            <a:ext cx="181944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Impala ram from the Kruger National Park, South Africa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2438280"/>
            <a:ext cx="3175200" cy="2121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1600200"/>
            <a:ext cx="20574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Grass gets energy from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2096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1600200"/>
            <a:ext cx="2819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The impala gets energy from eating the gr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1219320"/>
            <a:ext cx="2057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The leopard gets energy from eating the impa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5257800"/>
            <a:ext cx="792468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Maiandra GD"/>
              </a:rPr>
              <a:t>Which are autotrophs and which are heterotrophs? Explain w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-grass = autotroph (makes its own food)</a:t>
            </a: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-impala and leopard = heterotrophs (get energy from foods they consu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Fuel of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Glucose is called the fuel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Monosaccha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Maiandra GD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Maiandra GD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Maiandra GD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Contains too much energy for cells to use all a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Must convert this large amount of energy into a usabl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aiandra G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Like getting change from a vending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5880" y="1981080"/>
            <a:ext cx="2676600" cy="281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295280" y="228600"/>
            <a:ext cx="1298520" cy="1371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629400" y="304920"/>
            <a:ext cx="134316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ATP P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ATP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 Adenosine Tri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Chemical compound that cells use to store and release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Basic energy source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3 main p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Ade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Ribose (sug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3 phosphat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495680" y="4191120"/>
            <a:ext cx="4191120" cy="1593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495680" y="3733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Ade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37339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86600" y="35053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3 Phosphate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ATP a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The energy that ATP carries is found in the bonds between the phosph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Energy is released when these bonds are broken; energy is stored when these bonds are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33720" y="3251160"/>
            <a:ext cx="533376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iandra GD"/>
              </a:rPr>
              <a:t>ATP vs. ADP / 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ADP = adenosine di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2 phosphat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Has less potential energy than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AMP = adenosine mono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aiandra G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iandra GD"/>
              </a:rPr>
              <a:t>1 phosphat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Maiandra GD"/>
              </a:rPr>
              <a:t>Has less potential energy than A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Both of the above are recyc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267080" y="1411200"/>
            <a:ext cx="487692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38080" y="762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8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267080" y="30492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6248520"/>
            <a:ext cx="685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81952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Lose phosphate (break bond) = energy is rel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2666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34320" y="2743200"/>
            <a:ext cx="20574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Gain phosphate (form bond) = energy is st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8:38:21Z</dcterms:created>
  <dc:creator>bpalme</dc:creator>
  <dc:description/>
  <dc:language>en-US</dc:language>
  <cp:lastModifiedBy>udsd</cp:lastModifiedBy>
  <dcterms:modified xsi:type="dcterms:W3CDTF">2009-12-09T14:57:34Z</dcterms:modified>
  <cp:revision>17</cp:revision>
  <dc:subject/>
  <dc:title>Slide 1</dc:title>
</cp:coreProperties>
</file>